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11C-2069-4856-BA42-E51D06C3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5D4-7199-494E-AE1D-29DABAA8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7B0-7BB0-45E7-B77B-2EB16155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519-6AEF-4243-87EA-D2B765EF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0BC-B186-44F5-BCEF-CA977991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8B0-BBAB-4E0A-9171-7B9FC3D3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768-664C-4BC3-9756-2F5D2888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2BE-FC67-4D54-9C2A-86FA0525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B5A-A9F9-49AA-B48A-DB255664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87F-DAFF-49D0-B043-AB926D9D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91B-A917-4A16-8D8D-274D529B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90B-9F42-42FC-B373-187EFC69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C120-65B0-4350-9953-BAEEC91457E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xecute shell script “install.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./instal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192cu_linux_v3.0.xxxx.2011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333399"/>
                </a:solidFill>
                <a:latin typeface="Arial"/>
              </a:rPr>
              <a:t>tar zxvf</a:t>
            </a:r>
            <a:r>
              <a:rPr b="0" i="1" lang="zh-TW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333399"/>
                </a:solidFill>
                <a:latin typeface="Arial"/>
              </a:rPr>
              <a:t>rtl8192_8188CU_linux_v3.0.2052.20110701 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step2: make 8192C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driv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/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1-07-05T02:38:30Z</dcterms:modified>
  <cp:revision>133</cp:revision>
  <dc:subject/>
  <dc:title>投影片 1</dc:title>
</cp:coreProperties>
</file>